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21.wmf" ContentType="image/x-wmf"/>
  <Override PartName="/ppt/media/image4.wmf" ContentType="image/x-wmf"/>
  <Override PartName="/ppt/media/image5.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6.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1280" y="6126120"/>
            <a:ext cx="125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of Capital</a:t>
            </a:r>
            <a:endParaRPr b="0" lang="en-US" sz="1200" spc="-1" strike="noStrike">
              <a:solidFill>
                <a:srgbClr val="000000"/>
              </a:solidFill>
              <a:latin typeface="Times New Roman"/>
            </a:endParaRPr>
          </a:p>
        </p:txBody>
      </p:sp>
      <p:sp>
        <p:nvSpPr>
          <p:cNvPr id="7"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FF8C-40D1-4B50-A9EE-5593A12DB343}"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5F6D-3DBC-4F35-8ACE-19CE6C6EC4E3}"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ation</a:t>
            </a:r>
            <a:endParaRPr b="0" lang="en-US" sz="1200" spc="-1" strike="noStrike">
              <a:solidFill>
                <a:srgbClr val="000000"/>
              </a:solidFill>
              <a:latin typeface="Times New Roman"/>
            </a:endParaRPr>
          </a:p>
        </p:txBody>
      </p:sp>
      <p:sp>
        <p:nvSpPr>
          <p:cNvPr id="55"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A844-2351-4E66-B6FC-C98A45807409}"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B526-3461-4B34-9C0E-B8564BA2CBF1}"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0796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3032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edbodmer.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4647960"/>
            <a:ext cx="655308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 in  Valuation and Corporate Models</a:t>
            </a:r>
            <a:endParaRPr b="1" lang="en-US" sz="2800" spc="-1" strike="noStrike">
              <a:solidFill>
                <a:srgbClr val="ffffff"/>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Points</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arget capital struct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ominal cost of capital in currency consistent with the free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arket weights and incremental cost of capita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cky Ite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ible Bond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rate is due to equity value </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value</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Op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 on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able and No callable debt (effect on cash flow)</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1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new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if the capital structure changes, the cost of equity should change to maintain the same overall WAC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if the capital structure changes in the model, careful with assumption about how the WACC changes.</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12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V) * Kd x (1-t) + (E/V) * K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Capital</a:t>
            </a:r>
            <a:endParaRPr b="1" lang="en-US" sz="1800" spc="-1" strike="noStrike">
              <a:solidFill>
                <a:srgbClr val="000000"/>
              </a:solidFill>
              <a:latin typeface="Arial"/>
            </a:endParaRPr>
          </a:p>
        </p:txBody>
      </p:sp>
      <p:sp>
        <p:nvSpPr>
          <p:cNvPr id="1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MM</a:t>
            </a:r>
            <a:endParaRPr b="1" lang="en-US" sz="2000" spc="-1" strike="noStrike">
              <a:solidFill>
                <a:srgbClr val="000000"/>
              </a:solidFill>
              <a:latin typeface="Arial"/>
            </a:endParaRPr>
          </a:p>
        </p:txBody>
      </p:sp>
      <p:pic>
        <p:nvPicPr>
          <p:cNvPr id="126"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out Tax and WACC – Increasing Interest Cost</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1143000" y="1371600"/>
            <a:ext cx="5764320" cy="41972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 increasing Debt Cost – Equity Cost Decreases because of Option in Equity Cost</a:t>
            </a:r>
            <a:endParaRPr b="1" lang="en-US" sz="2000" spc="-1" strike="noStrike">
              <a:solidFill>
                <a:srgbClr val="000000"/>
              </a:solidFill>
              <a:latin typeface="Arial"/>
            </a:endParaRPr>
          </a:p>
        </p:txBody>
      </p:sp>
      <p:pic>
        <p:nvPicPr>
          <p:cNvPr id="131" name="" descr=""/>
          <p:cNvPicPr/>
          <p:nvPr/>
        </p:nvPicPr>
        <p:blipFill>
          <a:blip r:embed="rId1"/>
          <a:stretch/>
        </p:blipFill>
        <p:spPr>
          <a:xfrm>
            <a:off x="762120" y="1523880"/>
            <a:ext cx="7086600" cy="4191120"/>
          </a:xfrm>
          <a:prstGeom prst="rect">
            <a:avLst/>
          </a:prstGeom>
          <a:ln w="0">
            <a:noFill/>
          </a:ln>
        </p:spPr>
      </p:pic>
      <p:sp>
        <p:nvSpPr>
          <p:cNvPr id="132" name=""/>
          <p:cNvSpPr/>
          <p:nvPr/>
        </p:nvSpPr>
        <p:spPr>
          <a:xfrm>
            <a:off x="2895480" y="4419720"/>
            <a:ext cx="2819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Interest Rate with Higher Probability of Default</a:t>
            </a:r>
            <a:endParaRPr b="0" lang="en-US" sz="1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800600"/>
            <a:ext cx="7772400" cy="8380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M: k = r</a:t>
            </a:r>
            <a:r>
              <a:rPr b="1" lang="en-US" sz="2800" spc="-1" strike="noStrike" baseline="-25000">
                <a:solidFill>
                  <a:srgbClr val="ffffff"/>
                </a:solidFill>
                <a:latin typeface="Arial"/>
              </a:rPr>
              <a:t>f  </a:t>
            </a:r>
            <a:r>
              <a:rPr b="1" lang="en-US" sz="2800" spc="-1" strike="noStrike">
                <a:solidFill>
                  <a:srgbClr val="ffffff"/>
                </a:solidFill>
                <a:latin typeface="Arial"/>
              </a:rPr>
              <a:t>+ </a:t>
            </a:r>
            <a:r>
              <a:rPr b="1" lang="el-GR" sz="2800" spc="-1" strike="noStrike">
                <a:solidFill>
                  <a:srgbClr val="ffffff"/>
                </a:solidFill>
                <a:latin typeface="Arial"/>
                <a:ea typeface="Arial"/>
              </a:rPr>
              <a:t>β</a:t>
            </a:r>
            <a:r>
              <a:rPr b="1" lang="en-US" sz="2800" spc="-1" strike="noStrike">
                <a:solidFill>
                  <a:srgbClr val="ffffff"/>
                </a:solidFill>
                <a:latin typeface="Arial"/>
                <a:ea typeface="Arial"/>
              </a:rPr>
              <a:t> x r</a:t>
            </a:r>
            <a:r>
              <a:rPr b="1" lang="en-US" sz="2800" spc="-1" strike="noStrike" baseline="-25000">
                <a:solidFill>
                  <a:srgbClr val="ffffff"/>
                </a:solidFill>
                <a:latin typeface="Arial"/>
                <a:ea typeface="Arial"/>
              </a:rPr>
              <a:t>m</a:t>
            </a:r>
            <a:endParaRPr b="1" lang="en-US" sz="2800" spc="-1" strike="noStrike">
              <a:solidFill>
                <a:srgbClr val="ffffff"/>
              </a:solidFill>
              <a:latin typeface="Arial"/>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Inpu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i is the risk free rate for the current period (i) and it is the only variable directly affected by movements in the overall cost of capital in the econom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βi is the covariance between returns on the security and the market returns divided by the overall variance of market returns.  This parameter is the only input affected by the risk of the security in question and the βi parameter is not expected to vary over time unless there is a change in business and/or the financial risk of the compan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RP is the expected return on a fully diversified portfolio of equity securities over and above the rate of return on risk free securities.  This variable is a function only of aggregate preferences by people in the economy for risky investments versus risk free investments. It is not affected by current interest rates, the risk of the security, or movements in the overall stock mark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59760" y="4807080"/>
            <a:ext cx="1229400" cy="596880"/>
            <a:chOff x="59760" y="4807080"/>
            <a:chExt cx="1229400" cy="596880"/>
          </a:xfrm>
        </p:grpSpPr>
        <p:sp>
          <p:nvSpPr>
            <p:cNvPr id="137" name=""/>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Times New Roman"/>
              </a:endParaRPr>
            </a:p>
          </p:txBody>
        </p:sp>
      </p:grpSp>
      <p:grpSp>
        <p:nvGrpSpPr>
          <p:cNvPr id="139" name=""/>
          <p:cNvGrpSpPr/>
          <p:nvPr/>
        </p:nvGrpSpPr>
        <p:grpSpPr>
          <a:xfrm>
            <a:off x="1277640" y="4349880"/>
            <a:ext cx="1459080" cy="1054080"/>
            <a:chOff x="1277640" y="4349880"/>
            <a:chExt cx="1459080" cy="1054080"/>
          </a:xfrm>
        </p:grpSpPr>
        <p:sp>
          <p:nvSpPr>
            <p:cNvPr id="140" name=""/>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Times New Roman"/>
              </a:endParaRPr>
            </a:p>
          </p:txBody>
        </p:sp>
      </p:grpSp>
      <p:grpSp>
        <p:nvGrpSpPr>
          <p:cNvPr id="143" name=""/>
          <p:cNvGrpSpPr/>
          <p:nvPr/>
        </p:nvGrpSpPr>
        <p:grpSpPr>
          <a:xfrm>
            <a:off x="2109960" y="3481560"/>
            <a:ext cx="2379600" cy="1922400"/>
            <a:chOff x="2109960" y="3481560"/>
            <a:chExt cx="2379600" cy="1922400"/>
          </a:xfrm>
        </p:grpSpPr>
        <p:sp>
          <p:nvSpPr>
            <p:cNvPr id="144" name=""/>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Times New Roman"/>
              </a:endParaRPr>
            </a:p>
          </p:txBody>
        </p:sp>
      </p:grpSp>
      <p:grpSp>
        <p:nvGrpSpPr>
          <p:cNvPr id="148" name=""/>
          <p:cNvGrpSpPr/>
          <p:nvPr/>
        </p:nvGrpSpPr>
        <p:grpSpPr>
          <a:xfrm>
            <a:off x="6483240" y="2139840"/>
            <a:ext cx="2231280" cy="3035520"/>
            <a:chOff x="6483240" y="2139840"/>
            <a:chExt cx="2231280" cy="3035520"/>
          </a:xfrm>
        </p:grpSpPr>
        <p:grpSp>
          <p:nvGrpSpPr>
            <p:cNvPr id="149" name=""/>
            <p:cNvGrpSpPr/>
            <p:nvPr/>
          </p:nvGrpSpPr>
          <p:grpSpPr>
            <a:xfrm>
              <a:off x="6483240" y="2139840"/>
              <a:ext cx="520920" cy="3035520"/>
              <a:chOff x="6483240" y="2139840"/>
              <a:chExt cx="520920" cy="3035520"/>
            </a:xfrm>
          </p:grpSpPr>
          <p:sp>
            <p:nvSpPr>
              <p:cNvPr id="150" name=""/>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Times New Roman"/>
              </a:endParaRPr>
            </a:p>
          </p:txBody>
        </p:sp>
      </p:grpSp>
      <p:grpSp>
        <p:nvGrpSpPr>
          <p:cNvPr id="154" name=""/>
          <p:cNvGrpSpPr/>
          <p:nvPr/>
        </p:nvGrpSpPr>
        <p:grpSpPr>
          <a:xfrm>
            <a:off x="6254640" y="4014720"/>
            <a:ext cx="1559160" cy="1389240"/>
            <a:chOff x="6254640" y="4014720"/>
            <a:chExt cx="1559160" cy="1389240"/>
          </a:xfrm>
        </p:grpSpPr>
        <p:sp>
          <p:nvSpPr>
            <p:cNvPr id="155" name=""/>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159" name=""/>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495680" y="2440080"/>
            <a:ext cx="2667960" cy="2743200"/>
            <a:chOff x="4495680" y="2440080"/>
            <a:chExt cx="2667960" cy="2743200"/>
          </a:xfrm>
        </p:grpSpPr>
        <p:sp>
          <p:nvSpPr>
            <p:cNvPr id="161" name=""/>
            <p:cNvSpPr/>
            <p:nvPr/>
          </p:nvSpPr>
          <p:spPr>
            <a:xfrm>
              <a:off x="5183280" y="2440080"/>
              <a:ext cx="1980360" cy="2437560"/>
            </a:xfrm>
            <a:custGeom>
              <a:avLst/>
              <a:gdLst/>
              <a:ahLst/>
              <a:rect l="l" t="t" r="r" b="b"/>
              <a:pathLst>
                <a:path stroke="0" w="21600" h="21600">
                  <a:moveTo>
                    <a:pt x="0" y="10800"/>
                  </a:moveTo>
                  <a:arcTo wR="10800" hR="10800" stAng="10800000" swAng="5394490"/>
                  <a:lnTo>
                    <a:pt x="10800" y="10800"/>
                  </a:lnTo>
                  <a:close/>
                </a:path>
                <a:path fill="none" w="21600" h="21600">
                  <a:moveTo>
                    <a:pt x="0" y="10800"/>
                  </a:moveTo>
                  <a:arcTo wR="10800" hR="10800" stAng="10800000" swAng="5394490"/>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0000">
              <a:off x="5180400" y="3049560"/>
              <a:ext cx="1980720" cy="213372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164" name=""/>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wipe(down)"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39"/>
                                        </p:tgtEl>
                                        <p:attrNameLst>
                                          <p:attrName>style.visibility</p:attrName>
                                        </p:attrNameLst>
                                      </p:cBhvr>
                                      <p:to>
                                        <p:strVal val="visible"/>
                                      </p:to>
                                    </p:set>
                                    <p:animEffect filter="wipe(down)"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3"/>
                                        </p:tgtEl>
                                        <p:attrNameLst>
                                          <p:attrName>style.visibility</p:attrName>
                                        </p:attrNameLst>
                                      </p:cBhvr>
                                      <p:to>
                                        <p:strVal val="visible"/>
                                      </p:to>
                                    </p:set>
                                    <p:animEffect filter="wipe(down)"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8"/>
                                        </p:tgtEl>
                                        <p:attrNameLst>
                                          <p:attrName>style.visibility</p:attrName>
                                        </p:attrNameLst>
                                      </p:cBhvr>
                                      <p:to>
                                        <p:strVal val="visible"/>
                                      </p:to>
                                    </p:set>
                                    <p:animEffect filter="wipe(down)"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54"/>
                                        </p:tgtEl>
                                        <p:attrNameLst>
                                          <p:attrName>style.visibility</p:attrName>
                                        </p:attrNameLst>
                                      </p:cBhvr>
                                      <p:to>
                                        <p:strVal val="visible"/>
                                      </p:to>
                                    </p:set>
                                    <p:animEffect filter="wipe(down)" transition="in">
                                      <p:cBhvr additive="repl">
                                        <p:cTn id="27" dur="500"/>
                                        <p:tgtEl>
                                          <p:spTgt spid="1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60"/>
                                        </p:tgtEl>
                                        <p:attrNameLst>
                                          <p:attrName>style.visibility</p:attrName>
                                        </p:attrNameLst>
                                      </p:cBhvr>
                                      <p:to>
                                        <p:strVal val="visible"/>
                                      </p:to>
                                    </p:set>
                                    <p:animEffect filter="wipe(right)" transition="in">
                                      <p:cBhvr additive="repl">
                                        <p:cTn id="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Content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Cost of Capital Proce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Computation and Theo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sset Pricing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Measureme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emiu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Beta</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68256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ree Rate in CAPM</a:t>
            </a:r>
            <a:endParaRPr b="1" lang="en-US" sz="28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Rate Discussion</a:t>
            </a:r>
            <a:endParaRPr b="1" lang="en-US" sz="2000" spc="-1" strike="noStrike">
              <a:solidFill>
                <a:srgbClr val="000000"/>
              </a:solidFill>
              <a:latin typeface="Arial"/>
            </a:endParaRPr>
          </a:p>
        </p:txBody>
      </p:sp>
      <p:sp>
        <p:nvSpPr>
          <p:cNvPr id="1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debates concerning implementation of the risk free rate in the CAPM.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using long-term Treasury bond yields, some advocate short-term Treasury Bills and still others argue for use of the yield on inflation indexed bonds plus the expected rate of inflation.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mary argument against using long-term Treasury Bond yields as a proxy for the risk free rate is that holders of long-term bonds accept inflation risk and those yields are therefore not risk-fre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uring times at which an inverted yield curve exists, the long-term treasury yield will produce a lower risk free parameter than the Treasury Bill rat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se opposed to use of a short-term rate contend that the duration of cash flows from short-term investments does not match the duration of cash flows received from an investment in a stock.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Risk Free Rate </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issue in estimating the risk free rate is what risk free security should be us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quity pays cash flow to investors over a long perio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dividends could be compu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bill yield to maturity of 10 yea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6  -- 5.53%</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1  -- 4.98%</a:t>
            </a:r>
            <a:endParaRPr b="0" lang="en-US" sz="16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609480" y="2438280"/>
          <a:ext cx="7089840" cy="2373480"/>
        </p:xfrm>
        <a:graphic>
          <a:graphicData uri="http://schemas.openxmlformats.org/presentationml/2006/ole">
            <p:oleObj progId="Excel.Sheet.12" r:id="rId1" spid="">
              <p:embed/>
              <p:pic>
                <p:nvPicPr>
                  <p:cNvPr id="182" name="" descr=""/>
                  <p:cNvPicPr/>
                  <p:nvPr/>
                </p:nvPicPr>
                <p:blipFill>
                  <a:blip r:embed="rId2"/>
                  <a:stretch/>
                </p:blipFill>
                <p:spPr>
                  <a:xfrm>
                    <a:off x="609480" y="2438280"/>
                    <a:ext cx="7089840" cy="2373480"/>
                  </a:xfrm>
                  <a:prstGeom prst="rect">
                    <a:avLst/>
                  </a:prstGeom>
                  <a:ln w="0">
                    <a:noFill/>
                  </a:ln>
                </p:spPr>
              </p:pic>
            </p:oleObj>
          </a:graphicData>
        </a:graphic>
      </p:graphicFrame>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Free Rate</a:t>
            </a:r>
            <a:endParaRPr b="1" lang="en-US" sz="20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Adjustments to Risk Free Rate</a:t>
            </a:r>
            <a:endParaRPr b="1" lang="en-US" sz="2000" spc="-1" strike="noStrike">
              <a:solidFill>
                <a:srgbClr val="000000"/>
              </a:solidFill>
              <a:latin typeface="Arial"/>
            </a:endParaRPr>
          </a:p>
        </p:txBody>
      </p:sp>
      <p:pic>
        <p:nvPicPr>
          <p:cNvPr id="185"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ucial issue in financial analysis is establishing the discount rate and risk measurement using capital asset pricing model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rinciples of efficient markets, market expectations and event studies lie behind a number of  modeling and financial management concep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opinion is that cost of capital is over-estimated and compensated for with optimistic assumption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work on cost of capita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equity risk premium</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discredi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t growth rates are too high</a:t>
            </a:r>
            <a:endParaRPr b="0" lang="en-US" sz="1800" spc="-1" strike="noStrike">
              <a:solidFill>
                <a:srgbClr val="000000"/>
              </a:solidFill>
              <a:latin typeface="Arial"/>
            </a:endParaRPr>
          </a:p>
        </p:txBody>
      </p:sp>
      <p:sp>
        <p:nvSpPr>
          <p:cNvPr id="1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anagement and Finance Theory</a:t>
            </a: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 Market Risk Premium</a:t>
            </a:r>
            <a:endParaRPr b="1" lang="en-US" sz="28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 on EMRP</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is expressed in real terms and is not a nominal number.  This means the EMRP does not increase or decrease when interest rates change or when the expected rate of inflation changes.  It would be wrong, for example, to update this number in the midst of a case because of changes in the interest rat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comes from the general risk preferences of agents in an economy for equities relative to risk free securities.  If people did not have risk aversion for equities relative to risk free bonds, the EMRP would be zero.  This means changes in the EMRP are driven by changes in general preferences for equities relative to risk free securities.  Because the EMRP comes from risk preferences, it should be stable over long time periods as risk preferences do not swing from month to month or year to year.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the EMRP is an expected number rather than a number that can be directly measured from actual realized returns.  The fact that the EMRP is an expected number means that it does not change when the stock market goes up or down because realized earnings change or because general economic activity is robust or depresse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EMRP is an economy wide number not unique to ComEd.  Unlike Beta which measures the risk associated with a specific company, the EMRP is the same whether it is used in valuing a paper company, gauging the rate of return for an oil project or assessing the share price of an airline compan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the EMRP has been the subject of a very large body of research.  This research has been performed by people who are not funded by parties who have a vested interest in producing a particularly high or a particularly low risk premium number.  Since the EMRP is not unique to ComEd, since it is an expected number difficult to calculate, and since it is not expected to change over short time periods, the EMRP research is directly relevant to this and other regulatory proceedings. </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Opinions with Respect to EMRP</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ique Arzac recaps a wide body of research by stating “We show that both the historic record, financial theory, and prospective estimates based on stock prices and growth expectations, all indicate that the future equity premium in developed capital markets is likely between 3 and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h Artimage summarizes many different studies by noting: “Consensus is lacking at present on the best way of estimating the equity premium, and reasonable estimates lie in the rage of 1% or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ller et al. describe the general biases in EMRP: “Historical estimates found in most textbooks (and locked in the mind of many), which often report numbers near 8% are too high for valuation purposes because they compare the market risk premium versus short-term bonds, use only 75 years of data, and are biased by the historical strength of the U.S. market. </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EMRP</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ique Arzac refers to research by Blanchard who “developed a dynamic model of the expectations of real returns on stocks and bonds.  He found that the risk premium during the 1930’s and 1940’s was unusually high ranging from 3 to 5% in the early 1930’s to more than 10% in the 1940’s.  Afterwards, it started a gradual decline with some relatively minor fluctuations and reached between 2 and 3% in the early 199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us and Thomas emphasize the notion that historic returns exceed the expected amounts: “Despite substantial variation in the underlying fundamentals across markets and over time, observing that every one of our 69 country-year estimates lies well below eight percent suggests that the Ibbotson estimate is too high for our sample perio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DCF to Estimate EMRP</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h Armitage describes the DCF studies as follows: “The arithmetic mean real premium between 1900 and 2000 was … 7.0% for the United States, measured against the yield on long-term bonds.  But a simple forward looking estimate based on applying the dividend discount model to the market suggests a risk premium of 3% to 4%.  This is why many people do not expect the premium in the future to be as large as it has been in the past, especially in the second half of the twentieth century.  They place more faith in reasonable expectations about the future than in outcomes observed in recent decades.  Furthermore, several researchers have argued recently that investors did not expect premiums as large as they got in the twentieth century.  Armitage concludes that Most of the studies indicate a range for historic ex ante premiums … of between 1.5% and 4.5% -- considerably below the actual arithmetic mean premium since 1920…”</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uses a DCF model to estimate the equity market premium of between 3.08% and 3.32%.</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widely cited 2002 article, Fama and French state that “the equity premium estimates from the dividend and earnings growth models, 2.55 percent and 4.32 percent, are far below the estimate from the average return, 7.43 percent….The expected return estimates from the dividend and earnings growth models are more precise than the average return. The standard error of the dividend growth estimate of the expected return for 1951 to 2000 is 0.74 percent, versus 2.43 percent for the average stock return….The earnings growth model is not, however, clearly superior to the dividend growth model.”</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Investors</a:t>
            </a:r>
            <a:endParaRPr b="1" lang="en-US" sz="2000" spc="-1" strike="noStrike">
              <a:solidFill>
                <a:srgbClr val="000000"/>
              </a:solidFill>
              <a:latin typeface="Arial"/>
            </a:endParaRPr>
          </a:p>
        </p:txBody>
      </p:sp>
      <p:sp>
        <p:nvSpPr>
          <p:cNvPr id="1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he US, Merrill Lynch publishes ‘bottom up’ expected returns on the Standard and Poor’s 500, derived by averaging expected return estimates for stocks in the Standard &amp; Poor’s 500….In recent years, the Merrill Lynch expected return estimates have indicated an EMRP in the region of 4% to 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Value Line projected market risk premia are somewhat more volatile than those from the Merrill Lynch DDM model.  In recent years they have generally ranged from 2% to 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wich Associates had published the results of an annual survey of pension plan officers regarding expected returns on the Standard and Poor’s 500 for a five-year holding period.  The Greenwich Associates survey has generally indicated and EMRP in a 2%-3% rang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also cite investor expectations.  They summarize the information as follows: “Surveys of institutional investors also suggest an equity premium substantially below eight percent (e.g., Burr (1998)), and there are indications that this belief has been held for many years (e.g., Benore (1983)) . Also, the weighted average cost of capital used in discounted cash flow valuations provided in analysts’ research reports usually implies an equity premium below five percent.”</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Premium</a:t>
            </a:r>
            <a:endParaRPr b="1" lang="en-US" sz="2000" spc="-1" strike="noStrike">
              <a:solidFill>
                <a:srgbClr val="000000"/>
              </a:solidFill>
              <a:latin typeface="Arial"/>
            </a:endParaRPr>
          </a:p>
        </p:txBody>
      </p:sp>
      <p:sp>
        <p:nvSpPr>
          <p:cNvPr id="198" name="PlaceHolder 2"/>
          <p:cNvSpPr>
            <a:spLocks noGrp="1"/>
          </p:cNvSpPr>
          <p:nvPr>
            <p:ph/>
          </p:nvPr>
        </p:nvSpPr>
        <p:spPr>
          <a:xfrm>
            <a:off x="761760" y="152352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wide range in premiums used in theory and practice.  The following shows results from one stud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9" name="" descr=""/>
          <p:cNvPicPr/>
          <p:nvPr/>
        </p:nvPicPr>
        <p:blipFill>
          <a:blip r:embed="rId1"/>
          <a:stretch/>
        </p:blipFill>
        <p:spPr>
          <a:xfrm>
            <a:off x="685800" y="2778120"/>
            <a:ext cx="6477120" cy="28764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Market Risk Premium</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ll known study by Fama and French, published in 2002, finds that “estimates [of the equity market risk premium] for 1951 to 2000, 2.55 percent and 4.32 percent, are much lower than the equity premium produced by the average stock return, 7.43 perc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other oft cited paper published in 2001 by Claus and Thomas titled “Equity Premia as Low as Three Percent? Evidence from Analysts’ Earnings Forecasts for Domestic and International Stock Markets,” the authors conclude that “for each year between 1985 and 1998, we find that the equity premium is around three percent (or less) in the United States and five other marke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Cost of Capital: Intermediate Theory” which was published in 2005 summarizes the current research as follows: “Almost all researchers on this question agree that the premium in the twentieth century in the United States … has turned out to be larger than investors expected it to be.”</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Risk Premiums from Actual Returns</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premium is unobservabl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es have attempted to measure the expected market premium using the PE method</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Market Risk Premium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6-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7.8%</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5.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7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5.5%</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4.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4.7%</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3.6%</a:t>
            </a:r>
            <a:endParaRPr b="0" lang="en-US" sz="1200" spc="-1" strike="noStrike">
              <a:solidFill>
                <a:srgbClr val="000000"/>
              </a:solidFill>
              <a:latin typeface="Arial"/>
            </a:endParaRPr>
          </a:p>
        </p:txBody>
      </p:sp>
      <p:pic>
        <p:nvPicPr>
          <p:cNvPr id="204" name="" descr=""/>
          <p:cNvPicPr/>
          <p:nvPr/>
        </p:nvPicPr>
        <p:blipFill>
          <a:blip r:embed="rId1"/>
          <a:stretch/>
        </p:blipFill>
        <p:spPr>
          <a:xfrm>
            <a:off x="4648320" y="2514600"/>
            <a:ext cx="3581280" cy="31845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Market Premium</a:t>
            </a:r>
            <a:endParaRPr b="1" lang="en-US" sz="2000" spc="-1" strike="noStrike">
              <a:solidFill>
                <a:srgbClr val="000000"/>
              </a:solidFill>
              <a:latin typeface="Arial"/>
            </a:endParaRPr>
          </a:p>
        </p:txBody>
      </p:sp>
      <p:sp>
        <p:nvSpPr>
          <p:cNvPr id="2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Kinsey  -- 4.50%</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Low -- 3.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High -- 5.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ly and Meyers – 6% to 8.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 2.9%</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Rate Case -- 9.98%</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Sample Bias from Bankruptcy</a:t>
            </a:r>
            <a:endParaRPr b="0" lang="en-US" sz="1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iscount Rates in Merger Analysis</a:t>
            </a:r>
            <a:endParaRPr b="1" lang="en-US" sz="1800" spc="-1" strike="noStrike">
              <a:solidFill>
                <a:srgbClr val="000000"/>
              </a:solidFill>
              <a:latin typeface="Arial"/>
            </a:endParaRPr>
          </a:p>
        </p:txBody>
      </p:sp>
      <p:sp>
        <p:nvSpPr>
          <p:cNvPr id="1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determine the value of Pennzoil-Quaker State's common stock, Morgan Stanley performed a 5-year discounted cash flow analysis that included the use of two different scenarios, or case assumptions. The Management Case reflects Pennzoil-Quaker State management's estimates of the company's future financial performance, excluding any future acquisitions.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Case reflects publicly available estimates of Pennzoil-Quaker State's future performance of certain securities research analysts. These cases were used to project future cash flows </a:t>
            </a:r>
            <a:r>
              <a:rPr b="1" i="1" lang="en-US" sz="1400" spc="-1" strike="noStrike">
                <a:solidFill>
                  <a:srgbClr val="0000ff"/>
                </a:solidFill>
                <a:latin typeface="Arial"/>
              </a:rPr>
              <a:t>which were discounted back to a present value using a range of discount rates of 8% to 10%.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as determined based upon a calculation of Pennzoil-Quaker State's weighted average cost of capital (WACC), which was calculated based upon the WACC for comparable companies in three industry segments: Mid-Cap Consumer Products, Auto Aftermarket and Auto OE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also applied a terminal EBITDA multiple of 7.0x to 9.0x to the projected 2006 EBITDA, for purposes of calculating a terminal value of Pennzoil-Quaker State at the end of 2006. This terminal value together with the projected annual un-levered free cash flows from 2002 through 2006 was then discounted to the present, assuming cash flows occurred mid-year, using discount rates of 8% to 10%.</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1066680" y="1371600"/>
          <a:ext cx="6589800" cy="4238640"/>
        </p:xfrm>
        <a:graphic>
          <a:graphicData uri="http://schemas.openxmlformats.org/presentationml/2006/ole">
            <p:oleObj progId="Word.Document.12" r:id="rId1" spid="">
              <p:embed/>
              <p:pic>
                <p:nvPicPr>
                  <p:cNvPr id="208" name="" descr=""/>
                  <p:cNvPicPr/>
                  <p:nvPr/>
                </p:nvPicPr>
                <p:blipFill>
                  <a:blip r:embed="rId2"/>
                  <a:stretch/>
                </p:blipFill>
                <p:spPr>
                  <a:xfrm>
                    <a:off x="1066680" y="1371600"/>
                    <a:ext cx="6589800" cy="4238640"/>
                  </a:xfrm>
                  <a:prstGeom prst="rect">
                    <a:avLst/>
                  </a:prstGeom>
                  <a:ln w="0">
                    <a:noFill/>
                  </a:ln>
                </p:spPr>
              </p:pic>
            </p:oleObj>
          </a:graphicData>
        </a:graphic>
      </p:graphicFrame>
      <p:sp>
        <p:nvSpPr>
          <p:cNvPr id="209" name=""/>
          <p:cNvSpPr/>
          <p:nvPr/>
        </p:nvSpPr>
        <p:spPr>
          <a:xfrm>
            <a:off x="995040" y="5486400"/>
            <a:ext cx="71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an estimate of ERP is in the 4-5% range for mature markets</a:t>
            </a:r>
            <a:endParaRPr b="0" lang="en-US" sz="1800" spc="-1" strike="noStrike">
              <a:solidFill>
                <a:srgbClr val="000000"/>
              </a:solidFill>
              <a:latin typeface="Times New Roman"/>
            </a:endParaRPr>
          </a:p>
        </p:txBody>
      </p:sp>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isk Premium in Hong Kong</a:t>
            </a:r>
            <a:endParaRPr b="1" lang="en-US" sz="20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historic data in estimating market premium</a:t>
            </a:r>
            <a:endParaRPr b="1" lang="en-US" sz="2000" spc="-1" strike="noStrike">
              <a:solidFill>
                <a:srgbClr val="000000"/>
              </a:solidFill>
              <a:latin typeface="Arial"/>
            </a:endParaRPr>
          </a:p>
        </p:txBody>
      </p:sp>
      <p:sp>
        <p:nvSpPr>
          <p:cNvPr id="2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with market premium estimates is that the market premium should be an expected return rather than the historical actual returns that may or may not have been expec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now matters more than historic period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 drawn from the past have little relevance to what investors expect now.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75% probable yesterday has an unknown probability tomorrow.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a</a:t>
            </a:r>
            <a:endParaRPr b="1" lang="en-US" sz="2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Beta and Differences in Measurement</a:t>
            </a:r>
            <a:endParaRPr b="1" lang="en-US" sz="2000" spc="-1" strike="noStrike">
              <a:solidFill>
                <a:srgbClr val="000000"/>
              </a:solidFill>
              <a:latin typeface="Arial"/>
            </a:endParaRPr>
          </a:p>
        </p:txBody>
      </p:sp>
      <p:sp>
        <p:nvSpPr>
          <p:cNvPr id="2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at beta measurement can be dramatically different for the same compan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1752480" y="2819520"/>
            <a:ext cx="4695840" cy="24177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838080" y="1133640"/>
          <a:ext cx="5867640" cy="4967280"/>
        </p:xfrm>
        <a:graphic>
          <a:graphicData uri="http://schemas.openxmlformats.org/presentationml/2006/ole">
            <p:oleObj progId="Word.Document.12" r:id="rId1" spid="">
              <p:embed/>
              <p:pic>
                <p:nvPicPr>
                  <p:cNvPr id="218" name="" descr=""/>
                  <p:cNvPicPr/>
                  <p:nvPr/>
                </p:nvPicPr>
                <p:blipFill>
                  <a:blip r:embed="rId2"/>
                  <a:stretch/>
                </p:blipFill>
                <p:spPr>
                  <a:xfrm>
                    <a:off x="838080" y="1133640"/>
                    <a:ext cx="5867640" cy="4967280"/>
                  </a:xfrm>
                  <a:prstGeom prst="rect">
                    <a:avLst/>
                  </a:prstGeom>
                  <a:ln w="0">
                    <a:noFill/>
                  </a:ln>
                </p:spPr>
              </p:pic>
            </p:oleObj>
          </a:graphicData>
        </a:graphic>
      </p:graphicFrame>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Measurement </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measured from historic retur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cov(Rm,Rt)/variance(Rm)</a:t>
            </a:r>
            <a:endParaRPr b="0" lang="en-US" sz="1800" spc="-1" strike="noStrike">
              <a:solidFill>
                <a:srgbClr val="000000"/>
              </a:solidFill>
              <a:latin typeface="Arial"/>
            </a:endParaRPr>
          </a:p>
        </p:txBody>
      </p:sp>
      <p:pic>
        <p:nvPicPr>
          <p:cNvPr id="222" name="" descr=""/>
          <p:cNvPicPr/>
          <p:nvPr/>
        </p:nvPicPr>
        <p:blipFill>
          <a:blip r:embed="rId1"/>
          <a:stretch/>
        </p:blipFill>
        <p:spPr>
          <a:xfrm>
            <a:off x="2438280" y="2577960"/>
            <a:ext cx="5562720" cy="3289320"/>
          </a:xfrm>
          <a:prstGeom prst="rect">
            <a:avLst/>
          </a:prstGeom>
          <a:ln w="0">
            <a:noFill/>
          </a:ln>
        </p:spPr>
      </p:pic>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a:t>
            </a:r>
            <a:endParaRPr b="1" lang="en-US" sz="2000" spc="-1" strike="noStrike">
              <a:solidFill>
                <a:srgbClr val="000000"/>
              </a:solidFill>
              <a:latin typeface="Arial"/>
            </a:endParaRPr>
          </a:p>
        </p:txBody>
      </p:sp>
      <p:sp>
        <p:nvSpPr>
          <p:cNvPr id="2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Line computes its beta from a regression equation that measures an unadjusted beta.  Then, Value Line adds an adjustment to move the beta toward 1.0 using the following equation</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beta = 2/3 x Unadjusted beta + 1/3 x 1.0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djusted beta = Adjusted beta x 3/2 – 1/2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Patterson, C.S., 1995, </a:t>
            </a:r>
            <a:r>
              <a:rPr b="0" i="1" lang="en-US" sz="1800" spc="-1" strike="noStrike">
                <a:solidFill>
                  <a:srgbClr val="000000"/>
                </a:solidFill>
                <a:latin typeface="Arial"/>
              </a:rPr>
              <a:t>The Cost of Capital: Theory and Estimation</a:t>
            </a:r>
            <a:r>
              <a:rPr b="0" lang="en-US" sz="1800" spc="-1" strike="noStrike">
                <a:solidFill>
                  <a:srgbClr val="000000"/>
                </a:solidFill>
                <a:latin typeface="Arial"/>
              </a:rPr>
              <a:t>, Westport CT: Quorum Books, p. 130.</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 for Mean Reversion</a:t>
            </a:r>
            <a:endParaRPr b="1" lang="en-US" sz="2000" spc="-1" strike="noStrike">
              <a:solidFill>
                <a:srgbClr val="000000"/>
              </a:solidFill>
              <a:latin typeface="Arial"/>
            </a:endParaRPr>
          </a:p>
        </p:txBody>
      </p:sp>
      <p:sp>
        <p:nvSpPr>
          <p:cNvPr id="2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justment for betas is generally accepted in cost of capital literature for companies with betas above 1.0 because of a tendency of betas to revert to the mean.  Statistical studies have demonstrated that “there appeared to be greater measurement error associated with the betas of extreme values.”</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  The mean reversion adjustment is accepted for companies with observed high betas.  The risk of these high beta companies often moves towards 1.0 over time due to statistical measurement problems and due to the tendency of high business risk companies to eventually moderate.  However, the mean reversion is far less accepted for utility companies with betas of below 1.0. </a:t>
            </a: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Ogier, T, Rugman, J., Spicer, L., 2004, </a:t>
            </a:r>
            <a:r>
              <a:rPr b="0" i="1" lang="en-US" sz="1800" spc="-1" strike="noStrike">
                <a:solidFill>
                  <a:srgbClr val="000000"/>
                </a:solidFill>
                <a:latin typeface="Arial"/>
              </a:rPr>
              <a:t>The Real Cost of Capital A Business Field Guide to Better Financial Decisions</a:t>
            </a:r>
            <a:r>
              <a:rPr b="0" lang="en-US" sz="1800" spc="-1" strike="noStrike">
                <a:solidFill>
                  <a:srgbClr val="000000"/>
                </a:solidFill>
                <a:latin typeface="Arial"/>
              </a:rPr>
              <a:t>, Great Britain: FT Prentice Hall, page 54.</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djustments</a:t>
            </a:r>
            <a:endParaRPr b="1" lang="en-US" sz="2000" spc="-1" strike="noStrike">
              <a:solidFill>
                <a:srgbClr val="000000"/>
              </a:solidFill>
              <a:latin typeface="Arial"/>
            </a:endParaRPr>
          </a:p>
        </p:txBody>
      </p:sp>
      <p:sp>
        <p:nvSpPr>
          <p:cNvPr id="2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e of NICOR demonstrates that using a mean reversion adjustment wherein betas are pushed towards 1.0 to correct statistical irregularity is inappropriate for utility companies.  Instead, the statistical anomalies should push the beta back to the industry average beta for utility companies.  The 1.10 beta obviously does not measure prospective risk and making a correction by moving the beta towards 1.0 would not help.  The NICOR example effectively demonstrates that mean reversion adjustments of utility betas are not appropriate.  These adjustments do not improve the measurement of beta but instead simply result in increased cost of equity numbers.</a:t>
            </a: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229" name="" descr=""/>
          <p:cNvPicPr/>
          <p:nvPr/>
        </p:nvPicPr>
        <p:blipFill>
          <a:blip r:embed="rId1"/>
          <a:stretch/>
        </p:blipFill>
        <p:spPr>
          <a:xfrm>
            <a:off x="2362320" y="3200400"/>
            <a:ext cx="4046400" cy="247176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 versus Equity Beta</a:t>
            </a:r>
            <a:endParaRPr b="1" lang="en-US" sz="2000" spc="-1" strike="noStrike">
              <a:solidFill>
                <a:srgbClr val="000000"/>
              </a:solidFill>
              <a:latin typeface="Arial"/>
            </a:endParaRPr>
          </a:p>
        </p:txBody>
      </p:sp>
      <p:sp>
        <p:nvSpPr>
          <p:cNvPr id="2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V)*Bd + (E/V)*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measured with stock price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E are debt, enterprise value and equity value measured at market value.</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ssume Bd = 0</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Be = (Ba – (D/V)*Bd) * V/E  </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 x (1-t))/(E+D*(1-t)) * Bd + (E/(D*(1-t) + E *(1-t))*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that all cash flows from debt are tax deductibl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Example</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BellSouth’s Wireline segment for calendar years 2006 through 2008 and the terminal values calculated for BellSouth’s Wireline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Cingular for calendar years 2006 through 2008 and the terminal values calculated for Cingular were then discounted to the present value using discount rates of 8.5% to 9.5% and multiplied by 40%.  The estimated after-tax free cash flows for BellSouth’s Directories segment for calendar years 2006 through 2008 and the terminal values calculated for BellSouth’s Directories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discounted the unlevered free cash flow streams and the estimated terminal value to a present value at a range of discount rates from 7.5% to 8.5%. The discount rates utilized in this analysis were chosen by Lehman Brothers and Evercore based on their expertise and experience with the telecommunications industry and also on an analysis of the weighted average cost of capital of BellSouth and other comparable companies.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2743200" y="3733920"/>
          <a:ext cx="4495680" cy="1676160"/>
        </p:xfrm>
        <a:graphic>
          <a:graphicData uri="http://schemas.openxmlformats.org/drawingml/2006/table">
            <a:tbl>
              <a:tblPr/>
              <a:tblGrid>
                <a:gridCol w="1123920"/>
                <a:gridCol w="1123920"/>
                <a:gridCol w="1123560"/>
                <a:gridCol w="1124280"/>
              </a:tblGrid>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b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Equ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t b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ay Pacific has an observed beta of 1.3 and a debt to equity ratio of 50%. Singapore Airlines has a debt equity ratio of 25%. Calculate the equity beta of Singapore Airlines. The tax rates in Hong Kong and Singapore are 15 and 20% respectivel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sset and Equity Beta</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Illustration Using Unlevered Beta</a:t>
            </a:r>
            <a:endParaRPr b="1" lang="en-US" sz="2000" spc="-1" strike="noStrike">
              <a:solidFill>
                <a:srgbClr val="000000"/>
              </a:solidFill>
              <a:latin typeface="Arial"/>
            </a:endParaRPr>
          </a:p>
        </p:txBody>
      </p:sp>
      <p:sp>
        <p:nvSpPr>
          <p:cNvPr id="236" name="PlaceHolder 2"/>
          <p:cNvSpPr>
            <a:spLocks noGrp="1"/>
          </p:cNvSpPr>
          <p:nvPr>
            <p:ph/>
          </p:nvPr>
        </p:nvSpPr>
        <p:spPr>
          <a:xfrm>
            <a:off x="896760" y="1523880"/>
            <a:ext cx="1687680" cy="4191120"/>
          </a:xfrm>
          <a:prstGeom prst="rect">
            <a:avLst/>
          </a:prstGeom>
          <a:noFill/>
          <a:ln w="0">
            <a:noFill/>
          </a:ln>
        </p:spPr>
        <p:txBody>
          <a:bodyPr lIns="92160" rIns="92160" tIns="46080" bIns="46080" anchor="t">
            <a:normAutofit/>
          </a:bodyPr>
          <a:p>
            <a:pPr marL="290520" indent="-174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CC Slide shows the relation between the WACC and the Asset Beta</a:t>
            </a:r>
            <a:endParaRPr b="0" lang="en-US" sz="1600" spc="-1" strike="noStrike">
              <a:solidFill>
                <a:srgbClr val="000000"/>
              </a:solidFill>
              <a:latin typeface="Arial"/>
            </a:endParaRPr>
          </a:p>
        </p:txBody>
      </p:sp>
      <p:pic>
        <p:nvPicPr>
          <p:cNvPr id="237" name="" descr=""/>
          <p:cNvPicPr/>
          <p:nvPr/>
        </p:nvPicPr>
        <p:blipFill>
          <a:blip r:embed="rId1"/>
          <a:stretch/>
        </p:blipFill>
        <p:spPr>
          <a:xfrm>
            <a:off x="3259080" y="1523880"/>
            <a:ext cx="4589640" cy="41911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a:t>
            </a:r>
            <a:endParaRPr b="1" lang="en-US" sz="2000" spc="-1" strike="noStrike">
              <a:solidFill>
                <a:srgbClr val="000000"/>
              </a:solidFill>
              <a:latin typeface="Arial"/>
            </a:endParaRPr>
          </a:p>
        </p:txBody>
      </p:sp>
      <p:pic>
        <p:nvPicPr>
          <p:cNvPr id="239" name="" descr=""/>
          <p:cNvPicPr/>
          <p:nvPr/>
        </p:nvPicPr>
        <p:blipFill>
          <a:blip r:embed="rId1"/>
          <a:stretch/>
        </p:blipFill>
        <p:spPr>
          <a:xfrm>
            <a:off x="1295280" y="1523880"/>
            <a:ext cx="5943600" cy="4348440"/>
          </a:xfrm>
          <a:prstGeom prst="rect">
            <a:avLst/>
          </a:prstGeom>
          <a:ln w="0">
            <a:noFill/>
          </a:ln>
        </p:spPr>
      </p:pic>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Cost of Equity</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Premium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Factor Model: Size, Beta, Market to Boo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Dimens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2" name="" descr=""/>
          <p:cNvPicPr/>
          <p:nvPr/>
        </p:nvPicPr>
        <p:blipFill>
          <a:blip r:embed="rId1"/>
          <a:stretch/>
        </p:blipFill>
        <p:spPr>
          <a:xfrm>
            <a:off x="4890960" y="2643120"/>
            <a:ext cx="3262320" cy="260208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rdon’s Model and Implicit Discount Rates</a:t>
            </a:r>
            <a:br>
              <a:rPr sz="2800"/>
            </a:br>
            <a:r>
              <a:rPr b="1" lang="en-US" sz="2800" spc="-1" strike="noStrike">
                <a:solidFill>
                  <a:srgbClr val="ffffff"/>
                </a:solidFill>
                <a:latin typeface="Arial"/>
              </a:rPr>
              <a:t>k = D</a:t>
            </a:r>
            <a:r>
              <a:rPr b="1" lang="en-US" sz="2800" spc="-1" strike="noStrike" baseline="-25000">
                <a:solidFill>
                  <a:srgbClr val="ffffff"/>
                </a:solidFill>
                <a:latin typeface="Arial"/>
              </a:rPr>
              <a:t>1</a:t>
            </a:r>
            <a:r>
              <a:rPr b="1" lang="en-US" sz="2800" spc="-1" strike="noStrike">
                <a:solidFill>
                  <a:srgbClr val="ffffff"/>
                </a:solidFill>
                <a:latin typeface="Arial"/>
              </a:rPr>
              <a:t>/P + g</a:t>
            </a:r>
            <a:endParaRPr b="1" lang="en-US" sz="2800" spc="-1" strike="noStrike">
              <a:solidFill>
                <a:srgbClr val="ffffff"/>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Issue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one select an appropriate sample of comparable companies with similar risk to ComEd to derive the implied cost of equity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ethod should be used to compute the constant expected growth rate of marginal investors for each company in the comparable samp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valuation model for using earnings is a better way to derive the implicit cost of equity capital than dividend growth model; a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adjustments for quarterly compounding be made in deriving implicit discount rate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Issues</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text titled “Valuation: Measuring and Managing the Value of Companies” published in 2005, Tim Koller, Marc Goedhart and David Wessels state that “</a:t>
            </a:r>
            <a:r>
              <a:rPr b="0" i="1" lang="en-US" sz="1400" spc="-1" strike="noStrike">
                <a:solidFill>
                  <a:srgbClr val="000000"/>
                </a:solidFill>
                <a:latin typeface="Arial"/>
              </a:rPr>
              <a:t>analyst forecasts focus on the short term and are severely upward biased</a:t>
            </a:r>
            <a:r>
              <a:rPr b="0" lang="en-US" sz="1400" spc="-1" strike="noStrike">
                <a:solidFill>
                  <a:srgbClr val="000000"/>
                </a:solidFill>
                <a:latin typeface="Arial"/>
              </a:rPr>
              <a: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comments on the difficulty of predicting growth rates and the potential for the DCF model to over-estimate the cost of equity as follows: “The problem with [the DCF] approach is that long-term dividend growth rate of an individual company cannot be estimated with any degree of precision.  Hence, the dividend growth model is not likely to produce reliable estimates of the cost of equity capital of individual companies….A number of empirical studies have documented optimistic bias in analysts’ opinions….Thus, it seems reasonable to conclude that [the DCF equation] yields an upper bound to the equity premium.”</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conclude that earnings and dividend growth rates used for the DCF model “exhibit substantial optimism bias and need to be adjusted downward.”</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uis Chan and his coauthors conclude that “over the period 1982 to 1998, the median of the distribution of IBES growth forecasts is about 14.5 percent, a far cry from the median realized five year growth rate of about 9 percent for income before extraordinary item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a and French state that “In short, we find no evidence to support a forecast of strong future dividend or earnings growth at the end of our sample period.”</a:t>
            </a:r>
            <a:endParaRPr b="0" lang="en-US" sz="14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OE x (1-Payout) to Estimate Growth</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ividend payout ratio is 100% then even when a utility is currently earning more than its cost of capital (such as Exelon and NICOR) the earnings and book value do not grow (unless equity is issued at a market to book value above 1.0).  Since the equity base does not increase because no earnings are retained, a constant future return on equity applied to a constant amount of equity means that the income also remains constant.  With no earnings growth, the EPS growth i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other extreme, if the dividend payout ratio is zero, then earnings increase book value of equity on a one for one basis.  In this case without dividend payments (again assuming a constant return on equity) the book value of equity increases by the return on equity multiplied by the initial amount of equity on the balance sheet.  Assuming a constant return is multiplied by the book value that increases at a growth rate defined by the return on equity, the earnings also growth at the return on equity.  This is the growth rate implied by the formula abov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termediate cases where the dividend payout is between zero and one, the growth rate in earnings is the return on equity multiplied by one minus the dividend payout ratio under the assumption of a constant return on equity.</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isions and cost of capital</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nd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pplied to free cash flow</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val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Compared to payback rule and accounting earnings criteria</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st of Capital in Decision Making</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Dividends</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gan Stanley calculated terminal values by applying a range of multiples to the estimated EPS in fiscal year 2009 and the dividend streams and terminal values were then discounted to the present using a range of discount rates representing an estimated range of the cost of equity for each of PSEG and Exelon. Based on this analysis, Morgan Stanley calculated per share values for PSEG ranging from $42.75 to $47.10. Morgan Stanley noted that the implied consideration to be paid for each share of PSEG common stock was $53.14 as of December 15, 2004, which was greater than the range implied by this analysis. In addition, based on this analysis, Morgan Stanley calculated per share values for Exelon ranging from $38.15 to $42.01 and noted that the closing price of Exelon common stock on December 15, 2004 was $43.38, which was greater than the range implied by this analysis.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Manager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109"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1600" y="711000"/>
            <a:ext cx="70167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s</a:t>
            </a:r>
            <a:endParaRPr b="1" lang="en-US" sz="2000" spc="-1" strike="noStrike">
              <a:solidFill>
                <a:srgbClr val="000000"/>
              </a:solidFill>
              <a:latin typeface="Arial"/>
            </a:endParaRPr>
          </a:p>
        </p:txBody>
      </p:sp>
      <p:pic>
        <p:nvPicPr>
          <p:cNvPr id="255" name="" descr=""/>
          <p:cNvPicPr/>
          <p:nvPr/>
        </p:nvPicPr>
        <p:blipFill>
          <a:blip r:embed="rId1"/>
          <a:stretch/>
        </p:blipFill>
        <p:spPr>
          <a:xfrm>
            <a:off x="609480" y="1523880"/>
            <a:ext cx="7772400" cy="4591080"/>
          </a:xfrm>
          <a:prstGeom prst="rect">
            <a:avLst/>
          </a:prstGeom>
          <a:ln w="0">
            <a:noFill/>
          </a:ln>
        </p:spPr>
      </p:pic>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 of the Cost of Capital on Value</a:t>
            </a:r>
            <a:endParaRPr b="1" lang="en-US" sz="2000" spc="-1" strike="noStrike">
              <a:solidFill>
                <a:srgbClr val="000000"/>
              </a:solidFill>
              <a:latin typeface="Arial"/>
            </a:endParaRPr>
          </a:p>
        </p:txBody>
      </p:sp>
      <p:sp>
        <p:nvSpPr>
          <p:cNvPr id="2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free cash flow from calculations sheet in the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different discount rates to the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e final year cash flow occurs into perpetu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nterprise value, equity value and equity value per shar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ing Implicit Discount Rate with Corporate Models</a:t>
            </a:r>
            <a:endParaRPr b="1" lang="en-US" sz="2000" spc="-1" strike="noStrike">
              <a:solidFill>
                <a:srgbClr val="000000"/>
              </a:solidFill>
              <a:latin typeface="Arial"/>
            </a:endParaRPr>
          </a:p>
        </p:txBody>
      </p:sp>
      <p:sp>
        <p:nvSpPr>
          <p:cNvPr id="259" name="PlaceHolder 2"/>
          <p:cNvSpPr>
            <a:spLocks noGrp="1"/>
          </p:cNvSpPr>
          <p:nvPr>
            <p:ph/>
          </p:nvPr>
        </p:nvSpPr>
        <p:spPr>
          <a:xfrm>
            <a:off x="761760" y="1739880"/>
            <a:ext cx="6948360" cy="390384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discount rate is a very lose form of risk neutral 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his process illustrates how your stock is the currency of the transac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Approach</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your company using a set of base case assump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into the discount rate that makes the value in the model equal to the current market valu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discount rate and same set of assumptions to value the target</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ed Net Present Value</a:t>
            </a:r>
            <a:endParaRPr b="1" lang="en-US" sz="2800" spc="-1" strike="noStrike">
              <a:solidFill>
                <a:srgbClr val="ffffff"/>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APV</a:t>
            </a:r>
            <a:endParaRPr b="1" lang="en-US" sz="2000" spc="-1" strike="noStrike">
              <a:solidFill>
                <a:srgbClr val="000000"/>
              </a:solidFill>
              <a:latin typeface="Arial"/>
            </a:endParaRPr>
          </a:p>
        </p:txBody>
      </p:sp>
      <p:sp>
        <p:nvSpPr>
          <p:cNvPr id="2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assum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structure remains the sam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Tax Rate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L</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V corrects for some assumption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ortions in WACC for capital structur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ax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he Company as if it were entirely financed by equity using the statutory income rat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tax shields due to interest expense separately and use the debt discount rate to value this shiel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present value of net operating losses using the equity discount rate</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Free Cash Flow at discount rate using Ba without tax adjustment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tax shield from interest at the deb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net operating lo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Tax Shie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interest x tax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terminal value of debt</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etween AVP and DCF with WACC</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hield in the discoun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ccounting for NOL (WACC must use changing effective tax rat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value of deb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ing of debt repay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perating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payoff assumption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and WACC</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V (No tax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Ba x (Rm) +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Ba = (E/V) x Be + 0</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WACC assuming Rf =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 + (D/V) x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CC = (E/V) x (Be x Rm + Rf) + (D/V) x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Kd = Rf + Credit Sprea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E/V) * Rf + (D/V) * (Rf + Credit Spred)</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Case</a:t>
            </a:r>
            <a:endParaRPr b="1" lang="en-US" sz="2000" spc="-1" strike="noStrike">
              <a:solidFill>
                <a:srgbClr val="000000"/>
              </a:solidFill>
              <a:latin typeface="Arial"/>
            </a:endParaRPr>
          </a:p>
        </p:txBody>
      </p:sp>
      <p:pic>
        <p:nvPicPr>
          <p:cNvPr id="272"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838080" y="1828800"/>
          <a:ext cx="7139160" cy="3276720"/>
        </p:xfrm>
        <a:graphic>
          <a:graphicData uri="http://schemas.openxmlformats.org/presentationml/2006/ole">
            <p:oleObj progId="Word.Document.12" r:id="rId1" spid="">
              <p:embed/>
              <p:pic>
                <p:nvPicPr>
                  <p:cNvPr id="111" name="" descr=""/>
                  <p:cNvPicPr/>
                  <p:nvPr/>
                </p:nvPicPr>
                <p:blipFill>
                  <a:blip r:embed="rId2"/>
                  <a:stretch/>
                </p:blipFill>
                <p:spPr>
                  <a:xfrm>
                    <a:off x="838080" y="1828800"/>
                    <a:ext cx="7139160" cy="3276720"/>
                  </a:xfrm>
                  <a:prstGeom prst="rect">
                    <a:avLst/>
                  </a:prstGeom>
                  <a:ln w="0">
                    <a:noFill/>
                  </a:ln>
                </p:spPr>
              </p:pic>
            </p:oleObj>
          </a:graphicData>
        </a:graphic>
      </p:graphicFrame>
      <p:sp>
        <p:nvSpPr>
          <p:cNvPr id="112" name=""/>
          <p:cNvSpPr/>
          <p:nvPr/>
        </p:nvSpPr>
        <p:spPr>
          <a:xfrm>
            <a:off x="537120" y="5105520"/>
            <a:ext cx="679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match the right cash flow with the right discount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the thing being valued</a:t>
            </a:r>
            <a:endParaRPr b="0" lang="en-US" sz="1800" spc="-1" strike="noStrike">
              <a:solidFill>
                <a:srgbClr val="000000"/>
              </a:solidFill>
              <a:latin typeface="Times New Roman"/>
            </a:endParaRPr>
          </a:p>
        </p:txBody>
      </p:sp>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orrect Discount Rate for Correct Cash Flow</a:t>
            </a:r>
            <a:endParaRPr b="1" lang="en-US" sz="2000" spc="-1" strike="noStrike">
              <a:solidFill>
                <a:srgbClr val="000000"/>
              </a:solidFill>
              <a:latin typeface="Arial"/>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most common errors in dividend discount model valuation are in the assumptions about the payout ratio as the growth rate chang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Many high growth firms either pay low dividends or no dividends. As the growth rate changes, the dividend payout ratio should rise. If it does not, these firms will not be worth much using these model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vidend discount model valuation</a:t>
            </a:r>
            <a:endParaRPr b="1"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1905120" y="3505320"/>
                <a:ext cx="5279760" cy="1904760"/>
              </a:xfrm>
              <a:prstGeom prst="rect">
                <a:avLst/>
              </a:prstGeom>
            </p:spPr>
            <p:txBody>
              <a:bodyPr/>
              <a:p>
                <a14:m>
                  <m:oMath xmlns:m="http://schemas.openxmlformats.org/officeDocument/2006/math">
                    <m:eqArr>
                      <m:e>
                        <m:sSub>
                          <m:e>
                            <m:r>
                              <m:t xml:space="preserve">β</m:t>
                            </m:r>
                          </m:e>
                          <m:sub>
                            <m:r>
                              <m:rPr>
                                <m:lit/>
                                <m:nor/>
                              </m:rPr>
                              <m:t xml:space="preserve">geared</m:t>
                            </m:r>
                          </m:sub>
                        </m:sSub>
                        <m:r>
                          <m:t xml:space="preserve">=</m:t>
                        </m:r>
                        <m:sSub>
                          <m:e>
                            <m:r>
                              <m:t xml:space="preserve">β</m:t>
                            </m:r>
                          </m:e>
                          <m:sub>
                            <m:r>
                              <m:rPr>
                                <m:lit/>
                                <m:nor/>
                              </m:rPr>
                              <m:t xml:space="preserve">ungeared</m:t>
                            </m:r>
                          </m:sub>
                        </m:sSub>
                        <m:r>
                          <m:t xml:space="preserve">´</m:t>
                        </m:r>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e>
                      <m:e>
                        <m:r>
                          <m:rPr>
                            <m:lit/>
                            <m:nor/>
                          </m:rPr>
                          <m:t xml:space="preserve">thus</m:t>
                        </m:r>
                      </m:e>
                      <m:e>
                        <m:sSub>
                          <m:e>
                            <m:r>
                              <m:t xml:space="preserve">β</m:t>
                            </m:r>
                          </m:e>
                          <m:sub>
                            <m:r>
                              <m:rPr>
                                <m:lit/>
                                <m:nor/>
                              </m:rPr>
                              <m:t xml:space="preserve">ungeared</m:t>
                            </m:r>
                          </m:sub>
                        </m:sSub>
                        <m:r>
                          <m:t xml:space="preserve">=</m:t>
                        </m:r>
                        <m:f>
                          <m:num>
                            <m:sSub>
                              <m:e>
                                <m:r>
                                  <m:t xml:space="preserve">β</m:t>
                                </m:r>
                              </m:e>
                              <m:sub>
                                <m:r>
                                  <m:rPr>
                                    <m:lit/>
                                    <m:nor/>
                                  </m:rPr>
                                  <m:t xml:space="preserve">geared</m:t>
                                </m:r>
                              </m:sub>
                            </m:sSub>
                          </m:num>
                          <m:den>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den>
                        </m:f>
                      </m:e>
                    </m:eqArr>
                  </m:oMath>
                </a14:m>
              </a:p>
            </p:txBody>
          </p:sp>
        </mc:Choice>
        <mc:Fallback/>
      </mc:AlternateContent>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and Equity Beta with Taxes</a:t>
            </a:r>
            <a:endParaRPr b="1" lang="en-US" sz="2000" spc="-1" strike="noStrike">
              <a:solidFill>
                <a:srgbClr val="000000"/>
              </a:solidFill>
              <a:latin typeface="Arial"/>
            </a:endParaRPr>
          </a:p>
        </p:txBody>
      </p:sp>
      <p:sp>
        <p:nvSpPr>
          <p:cNvPr id="2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 beta can be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et) = B(equity) x (Equity/EV) + B(debt) x (Debt/E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ights must be at market value</a:t>
            </a:r>
            <a:endParaRPr b="0" lang="en-US" sz="1800" spc="-1" strike="noStrike">
              <a:solidFill>
                <a:srgbClr val="000000"/>
              </a:solidFill>
              <a:latin typeface="Arial"/>
            </a:endParaRPr>
          </a:p>
        </p:txBody>
      </p:sp>
    </p:spTree>
  </p:cSld>
  <p:transition>
    <p:cover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the risk free rate should be the same as the duration of the equity cash flows to eliminate interest rate risk.  To see this, consider the venture capital example when the cash flows all occurred in 7 years.  Pretend that somehow the cash flow could be hedged in futures markets in year 7 and there is no risk.  In this example, a risk free zero coupon rate bond that matures in 7 years would clearly match the cash flow of the equity.  A bond with a seven year duration would accomplish this.</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of course, the duration of equity cash flows is not known.  The duration is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 </a:t>
            </a:r>
            <a:r>
              <a:rPr b="0" lang="en-US" sz="1800" spc="-1" strike="noStrike">
                <a:solidFill>
                  <a:srgbClr val="000000"/>
                </a:solidFill>
                <a:latin typeface="Arial"/>
                <a:ea typeface="Arial"/>
              </a:rPr>
              <a:t>∑ (t x PV of Cash Flow)/Present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ration can be computed for a 10 year bond and for equity as illustrated in the following slides.</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of 10 Year Bond</a:t>
            </a:r>
            <a:endParaRPr b="1" lang="en-US" sz="2000" spc="-1" strike="noStrike">
              <a:solidFill>
                <a:srgbClr val="000000"/>
              </a:solidFill>
              <a:latin typeface="Arial"/>
            </a:endParaRPr>
          </a:p>
        </p:txBody>
      </p:sp>
      <p:pic>
        <p:nvPicPr>
          <p:cNvPr id="287" name="" descr=""/>
          <p:cNvPicPr/>
          <p:nvPr/>
        </p:nvPicPr>
        <p:blipFill>
          <a:blip r:embed="rId1"/>
          <a:stretch/>
        </p:blipFill>
        <p:spPr>
          <a:xfrm>
            <a:off x="990720" y="1371600"/>
            <a:ext cx="3024000" cy="4191120"/>
          </a:xfrm>
          <a:prstGeom prst="rect">
            <a:avLst/>
          </a:prstGeom>
          <a:ln w="0">
            <a:noFill/>
          </a:ln>
        </p:spPr>
      </p:pic>
      <p:pic>
        <p:nvPicPr>
          <p:cNvPr id="288" name="" descr=""/>
          <p:cNvPicPr/>
          <p:nvPr/>
        </p:nvPicPr>
        <p:blipFill>
          <a:blip r:embed="rId2"/>
          <a:stretch/>
        </p:blipFill>
        <p:spPr>
          <a:xfrm>
            <a:off x="4552920" y="1523880"/>
            <a:ext cx="3122640" cy="41911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 – “The 10-year rate is less susceptible to two problems involved in using a longer rate, such as a 30 year Treasury Bond rate.  Its price is less sensitive to unexpected changes in inflation and so has a smaller beta that the thirty year rate.  Also, the liquidity built into 10 year rates may be lower than that of 30 year bo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says: “the most common errors in setting the WACC ar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ad hoc adjustments for risk, a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ing the WACC to discount foreign currency cash flow</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ssume that you are valuing Dragon Air and there is no Beta available for this compan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you use US Airlines with and that the average Beta is 1.0.</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ta is Cov(R</a:t>
            </a:r>
            <a:r>
              <a:rPr b="0" lang="en-US" sz="1600" spc="-1" strike="noStrike" baseline="-25000">
                <a:solidFill>
                  <a:srgbClr val="000000"/>
                </a:solidFill>
                <a:latin typeface="Arial"/>
              </a:rPr>
              <a:t>m</a:t>
            </a:r>
            <a:r>
              <a:rPr b="0" lang="en-US" sz="1600" spc="-1" strike="noStrike">
                <a:solidFill>
                  <a:srgbClr val="000000"/>
                </a:solidFill>
                <a:latin typeface="Arial"/>
              </a:rPr>
              <a:t>,R</a:t>
            </a:r>
            <a:r>
              <a:rPr b="0" lang="en-US" sz="1600" spc="-1" strike="noStrike" baseline="-25000">
                <a:solidFill>
                  <a:srgbClr val="000000"/>
                </a:solidFill>
                <a:latin typeface="Arial"/>
              </a:rPr>
              <a:t>i</a:t>
            </a:r>
            <a:r>
              <a:rPr b="0" lang="en-US" sz="1600" spc="-1" strike="noStrike">
                <a:solidFill>
                  <a:srgbClr val="000000"/>
                </a:solidFill>
                <a:latin typeface="Arial"/>
              </a:rPr>
              <a:t>)/Var(R</a:t>
            </a:r>
            <a:r>
              <a:rPr b="0" lang="en-US" sz="1600" spc="-1" strike="noStrike" baseline="-25000">
                <a:solidFill>
                  <a:srgbClr val="000000"/>
                </a:solidFill>
                <a:latin typeface="Arial"/>
              </a:rPr>
              <a:t>m</a:t>
            </a:r>
            <a:r>
              <a:rPr b="0" lang="en-US" sz="1600" spc="-1" strike="noStrike">
                <a:solidFill>
                  <a:srgbClr val="000000"/>
                </a:solidFill>
                <a:latin typeface="Arial"/>
              </a:rPr>
              <a: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R</a:t>
            </a:r>
            <a:r>
              <a:rPr b="0" lang="en-US" sz="1600" spc="-1" strike="noStrike" baseline="-25000">
                <a:solidFill>
                  <a:srgbClr val="000000"/>
                </a:solidFill>
                <a:latin typeface="Arial"/>
              </a:rPr>
              <a:t>m</a:t>
            </a:r>
            <a:r>
              <a:rPr b="0" lang="en-US" sz="1600" spc="-1" strike="noStrike">
                <a:solidFill>
                  <a:srgbClr val="000000"/>
                </a:solidFill>
                <a:latin typeface="Arial"/>
              </a:rPr>
              <a:t> is US Marke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US is R</a:t>
            </a:r>
            <a:r>
              <a:rPr b="0" lang="en-US" sz="1600" spc="-1" strike="noStrike" baseline="-25000">
                <a:solidFill>
                  <a:srgbClr val="000000"/>
                </a:solidFill>
                <a:latin typeface="Arial"/>
              </a:rPr>
              <a:t>f</a:t>
            </a:r>
            <a:r>
              <a:rPr b="0" lang="en-US" sz="1600" spc="-1" strike="noStrike">
                <a:solidFill>
                  <a:srgbClr val="000000"/>
                </a:solidFill>
                <a:latin typeface="Arial"/>
              </a:rPr>
              <a:t>+R</a:t>
            </a:r>
            <a:r>
              <a:rPr b="0" lang="en-US" sz="1600" spc="-1" strike="noStrike" baseline="-25000">
                <a:solidFill>
                  <a:srgbClr val="000000"/>
                </a:solidFill>
                <a:latin typeface="Arial"/>
              </a:rPr>
              <a:t>m</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HK should by R</a:t>
            </a:r>
            <a:r>
              <a:rPr b="0" lang="en-US" sz="1600" spc="-1" strike="noStrike" baseline="-25000">
                <a:solidFill>
                  <a:srgbClr val="000000"/>
                </a:solidFill>
                <a:latin typeface="Arial"/>
              </a:rPr>
              <a:t>f</a:t>
            </a:r>
            <a:r>
              <a:rPr b="0" lang="en-US" sz="1600" spc="-1" strike="noStrike">
                <a:solidFill>
                  <a:srgbClr val="000000"/>
                </a:solidFill>
                <a:latin typeface="Arial"/>
              </a:rPr>
              <a:t>(HK) + R</a:t>
            </a:r>
            <a:r>
              <a:rPr b="0" lang="en-US" sz="1600" spc="-1" strike="noStrike" baseline="-25000">
                <a:solidFill>
                  <a:srgbClr val="000000"/>
                </a:solidFill>
                <a:latin typeface="Arial"/>
              </a:rPr>
              <a:t>m</a:t>
            </a:r>
            <a:r>
              <a:rPr b="0" lang="en-US" sz="1600" spc="-1" strike="noStrike">
                <a:solidFill>
                  <a:srgbClr val="000000"/>
                </a:solidFill>
                <a:latin typeface="Arial"/>
              </a:rPr>
              <a:t> (US), </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R</a:t>
            </a:r>
            <a:r>
              <a:rPr b="0" lang="en-US" sz="1400" spc="-1" strike="noStrike" baseline="-25000">
                <a:solidFill>
                  <a:srgbClr val="000000"/>
                </a:solidFill>
                <a:latin typeface="Arial"/>
              </a:rPr>
              <a:t>f</a:t>
            </a:r>
            <a:r>
              <a:rPr b="0" lang="en-US" sz="1400" spc="-1" strike="noStrike">
                <a:solidFill>
                  <a:srgbClr val="000000"/>
                </a:solidFill>
                <a:latin typeface="Arial"/>
              </a:rPr>
              <a:t>(HK) + R</a:t>
            </a:r>
            <a:r>
              <a:rPr b="0" lang="en-US" sz="1400" spc="-1" strike="noStrike" baseline="-25000">
                <a:solidFill>
                  <a:srgbClr val="000000"/>
                </a:solidFill>
                <a:latin typeface="Arial"/>
              </a:rPr>
              <a:t>m</a:t>
            </a:r>
            <a:r>
              <a:rPr b="0" lang="en-US" sz="1400" spc="-1" strike="noStrike">
                <a:solidFill>
                  <a:srgbClr val="000000"/>
                </a:solidFill>
                <a:latin typeface="Arial"/>
              </a:rPr>
              <a:t> (HK), because the Beta was computed from the US Rm</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US Rm, otherwise, the Beta would not be consistent with the Rm</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stimation of WACC and Cost of Capital</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some very simple ste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arket into three beta group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 average   1.2</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average    .8</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1.0</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out what investors expect in local markets in terms of the premium above the risk free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5% in London and 7% in Chin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local risk free rate to the market premium adjusted for the three categories of bet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djustments for country risk with political risk insurance rates</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1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nd Risk Premium Computation</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Rm in Hong Kong is 7% and the Rm is the US is 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eta is used for a comparable 1.0 and is measured in the US, the expected return is 5% plus the Rf.  This reflects the return investors require to be compensated for risk.  If it is applied to a company with similar risks in Hong Kong, th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Beta is applied to the Hong Kong Rm, the cost of capital implied is 7% plus the Rf.</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WACC in a merger, should you use the incremental cost of debt for the target or the acquirer</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debt is retired, in which case it is clear that the cost of debt of the acquirer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debt will be financed by the acquirer not the target, so the acquirer cost of debt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debt in the valuation should also be at the acquirer cost of debt as in the example we developed in class</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premiums for country risk, I suggest using risk insurance premiums that are offered by institutions such as the AD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insurance for nationalization, non conversion of currency and contract abrogation.  After these risks are removed, the risk should be similar to places where these risks are not pres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percentages to add to debt which can be added to the Rf</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s</a:t>
            </a:r>
            <a:endParaRPr b="1" lang="en-US" sz="2000" spc="-1" strike="noStrike">
              <a:solidFill>
                <a:srgbClr val="000000"/>
              </a:solidFill>
              <a:latin typeface="Arial"/>
            </a:endParaRPr>
          </a:p>
        </p:txBody>
      </p:sp>
      <p:sp>
        <p:nvSpPr>
          <p:cNvPr id="3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edbodmer.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886-2745</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ighted Average Cost of Capital</a:t>
            </a:r>
            <a:endParaRPr b="1" lang="en-US" sz="2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Monica Lewinski</cp:lastModifiedBy>
  <cp:lastPrinted>1999-07-15T13:20:36Z</cp:lastPrinted>
  <dcterms:modified xsi:type="dcterms:W3CDTF">2009-10-31T10:38:29Z</dcterms:modified>
  <cp:revision>214</cp:revision>
  <dc:subject>CLO Course</dc:subject>
  <dc:title>CDO - Introduction</dc:title>
</cp:coreProperties>
</file>